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7149960" cy="9450360"/>
          </a:xfrm>
          <a:custGeom>
            <a:avLst/>
            <a:gdLst>
              <a:gd name="textAreaLeft" fmla="*/ 360 w 7149960"/>
              <a:gd name="textAreaRight" fmla="*/ 7149600 w 7149960"/>
              <a:gd name="textAreaTop" fmla="*/ 360 h 9450360"/>
              <a:gd name="textAreaBottom" fmla="*/ 9450000 h 9450360"/>
            </a:gdLst>
            <a:ahLst/>
            <a:rect l="textAreaLeft" t="textAreaTop" r="textAreaRight" b="textAreaBottom"/>
            <a:pathLst>
              <a:path w="21600" h="28549">
                <a:moveTo>
                  <a:pt x="4" y="0"/>
                </a:moveTo>
                <a:arcTo wR="4" hR="4" stAng="16200000" swAng="-5400000"/>
                <a:lnTo>
                  <a:pt x="0" y="28545"/>
                </a:lnTo>
                <a:arcTo wR="4" hR="4" stAng="10800000" swAng="-5400000"/>
                <a:lnTo>
                  <a:pt x="21596" y="28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5"/>
          </p:nvPr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2840" cy="35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00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6"/>
          </p:nvPr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7"/>
          </p:nvPr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15D6D-938A-4757-9228-6C6FCF0225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2840" cy="3541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00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oving JFFS2 RAM usage and perform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r Alexey Korole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about easy applicable JFFS2 patches allowing to reduce JJFS2 RAM usage and increase file open, file stat performa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provide direct write avoiding Linux VF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pplication requests to write some data to fi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comes to VFS layer. VFS calls JFFS2 file write ope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FFS2 writes all requested data - in this case the only one frag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writ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mplementation assumes some insignificant JFFS2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 provides the very easy way to reduce number of n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implemented th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D00E8-5C5A-48E5-8FCC-B9D356AFDB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comparison results of JFFS2 with Direct IO and generic JFFS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wrote data in 32KB chun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een that direct IO could reduce RAM usage over 3 times. On volume 160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Linear dependency of RAM usages from volume size is still exi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e changed the coefficient of linear depend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t was necessary to keep 40bytes descriptor per one 4KB page now we could have 1 descriptor per several possibly 8 p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96619-C226-47D5-8322-E28867B648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is about stat time. The chart shows that stat time could also be improved significa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D7E5F-5905-45FD-A4F3-4450D7A5D2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is implementation gives significant advantages in RAM usage and easy applic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 it has some restri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: This solution is effective if applications write  in large chunks. Over 4K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pplications write data in small chunks fragments won't be merged until GC touches 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odel won't be effective if use-case assumes tons of tiny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ing VFS page cache use could have either positive or 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quen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media files it avoids wasting page cache. Could positively affect on system perform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databases, logs, documents using page cache is highly recomm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 is recommended using O_DIRECT file open flag to manag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we did special workaround providing cached read while direct wri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48553-2623-451A-980F-64E8EB2968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le direct I/O feature is ready for use. (Linux-2.6.2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downloaded from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ch is rather small and could be ported to different JFFS2 ver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recently ported it to the one of JFFS2 version of Linux 2.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10409-A87A-48EE-9D52-61723599D6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presentation I'd like to talk about our prototype to impr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FFS2 RAM u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s to avoid restrictions : to use VFS direct write and restriction for appl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rite data in large chu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ssume that application writes data in different chun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o the standard procedure with VFS. But store the data in RAM buffer. And merge nodes in 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buffer will be full or VFS call JFFS2 to sync() we will flush RAM buff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21284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o conclude the resul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e prepared patches for JFFS2 to provide Direct IO in JFFS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t significantly reduces JFFS2 ram usage but does not completely solve scalability issue and lin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cy of RAM usage on volume size however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atch is easy applicable and most effective only if applications write data in Large chu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for your attention, I would appreciate your Questions, please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1284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for your attention, I would appreciate your Questions, pl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1A15E-12A4-4CC9-A8E1-C51C3ADA7C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 is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first I will give a brief information about JFFS2. It’s descri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will review the question of JFFS2 effectiveness on large vol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of all we define what LARGE me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will look at the test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swer the question why JFFS2 is ineffective on large volum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at we will talk how JFFS2 RAM usage could be improved with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sting archite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first the general idea of improvement will be giv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will consider implementation based on file direct I/O as a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to reduce RAM usage and increase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 will show you test data collec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rovement based on file direct IO has some restrictions and drawbacks so we will tal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requirements and limi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ill talk about the current status and avail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I will talk about next JFFS2 improvement allowing to remove restri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adding Direct IO fe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F75ED-7363-4A62-B71A-22E61AE72A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supposing that some of you are new with JFFS2. So 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Journalled flash fil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pported in Linux for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orks with any kinds of NOR, NAND and DATAFLA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 it is widely used in many configurations to provide F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 to memory technology de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pite of this advantages it has some issues on Large vol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EF93C-B751-453E-AA8B-2C406BF833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It make sense to define what large volume me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data got from Gartner Dataquest showing average NOR and NAND densities of cellular ph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an see the typical NOR density of featured phones will be 31MB in 2008 and 40MB in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NAND the values are 79MB and 146M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247C1-9F34-4AFA-86E7-1393E4156D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have a look at JFFS2 RAM usage and sta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an notice the value grows linearly. For 100MB used size RAM usage will be about 2M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value for file system RAM usage budget in featured phone is about 1MB – 1.5 MB.  More FS RAM usage cause phone designers compl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f flash density is over 80MB using JFFS2 becomes issue for design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52BC2-341A-4308-89CD-260CB455CA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ile stat time or open time performance the situation is almost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time grows linearly depending on file or folder siz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ble time to open media file suitable for end user is 1s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dealing with files over 5MB also becomes a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049640" y="897408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F9D06-F831-4EB4-AE6F-C37E49DB11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97408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3097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049640" y="0"/>
            <a:ext cx="3097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happe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FFS2 assumes keeping nodes (fragment) descriptions in memory since the moment of getting file inf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number of nodes (fragments) becomes huge JFFS2 RAM usage becomes huge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file consists of many fragments file open time becomes very long because JFFS2 needs to read every header from flas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chitectural scalability issue of JFFS2. It is not possibl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ly solve it without complete file system redesign however there are worka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2840" cy="35416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00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r approach to reducing RAM usage and decreasing file open time is conceptually simple (but effective)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duce the number of JFFS2 fra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need to have one descriptor in RAM for every fragment. Why not to reduce fragment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estion is how to reduce the number of JFFS2 fragm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t’s look at how this can be done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have a look at the file write proced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pplication requests to write some data to fi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comes to VFS layer. VFS calls JFFS2 file write ope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FFS2 calls VFS sync_write. This causes putting the data to VFS page cach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everal address space requests to write one page. As result on reques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to write 64KB data we have 16 requests to write page and 16 frag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772B3-70AF-4F2F-B259-B69255DB8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1A62-5ED3-4CDF-9F86-D119632D6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6DBC-5F5F-4C52-BBC9-68226745B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83BF-2E5D-4473-9B31-8D77390B0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F28F-6565-49C6-B673-4D52B56CA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B9CD3-3861-4B88-B411-30317D0E65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2835C-8D97-432B-A559-9CFA7B3AB2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4453-6FEA-450E-91EF-9FFB4CF6B7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DBCB-946D-447C-BF60-A6CFADF548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4B54-98AF-4768-9574-8385674E06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E7EA-4A0C-4735-87B4-B2DA572410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A55DE-7DA3-46E2-B97E-25E00C45AA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23A47-8A83-458A-9770-1FCB2E1BFD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2DB42-C3E4-4D78-88E5-496925E57D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E9F3-0BD4-4026-A378-9F4DE8C98B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212CD-2260-4942-83C0-F59E783AD6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5C19E-0397-4817-988D-61EC470E20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61EEC-74FB-414B-A478-D8762364D2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0BD0-84BE-461A-8BB1-2F473007AA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56B-A1A8-42CD-9572-EB3063ADA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7773A-27B8-4F3E-8003-C583F60236D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529-4894-412A-A096-06A400FD4F9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F2A1-8100-4DFF-B50D-FDAA41EFC40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C194-F46C-4C23-B3C9-E53BA6151C5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D1D3-A885-485D-A69B-5D4B9C4D83C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33B-59C4-41CA-A7D3-A4D2963349C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4AA-B13C-4BD1-A412-AE35BF3227A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955-939C-4B68-94FA-E1C3DAFC804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B13-C733-4E61-80EC-81ED9A260AA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083-6B5F-4540-8D16-11C09C9F691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3168-703D-49CE-8B4D-222B64124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0C7A-8BBC-46BE-BCCC-09E43533864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2DD-CE36-4162-9D8E-72304832F9C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DFBA-BA5F-40C8-A846-624FAE19DE2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F296F-C14C-42CA-8071-7A79E49C502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F7381-08AE-417E-B36A-F981037B39A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73E24-D4EE-4AF8-ABE7-3408F6D3EA3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6C6FB-BFCF-4C34-93B5-50D9ED8F53E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E6BA6-8C76-4E13-855E-CC1FF853F15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739A5-4CF8-4C5F-8E31-9DB19FCBE55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3ABFE-EABD-4DAF-A8E2-183CA9651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0754-9342-49DC-B1BC-A97057F35A9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321C4-0AEC-4088-9DD0-3B9010C7822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D2D3D-DC97-4A25-971C-E8FC79B8A89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30828-8572-4B86-B5CE-DBCE69ADDC0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A9470-AFCD-4762-A743-5A7A90134D6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ACE2C-B5AE-46A3-9C4F-58DB0BCDBF9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F147-EA52-4874-8A2E-01CDC90E1D0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138200" y="6431040"/>
            <a:ext cx="415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E3F6F-872A-4F72-B103-9F4C2BE9572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727280" y="5761080"/>
            <a:ext cx="390852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Verdana regular 7pt.</a:t>
            </a:r>
            <a:endParaRPr b="0" lang="en-US" sz="7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Legal text goes here</a:t>
            </a:r>
            <a:endParaRPr b="0" lang="en-US" sz="7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89720" y="62895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lash Products Group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4138200" y="6431040"/>
            <a:ext cx="415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BF705-3E32-4AED-B31A-3D207DB7F39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280" y="6095880"/>
            <a:ext cx="390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l Confidential 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9720" y="62895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lash Products Group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4138200" y="6431040"/>
            <a:ext cx="415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C67BB-427C-47C3-9F53-11B85B0EFF9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720" y="62895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lash Products Group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4"/>
          </p:nvPr>
        </p:nvSpPr>
        <p:spPr>
          <a:xfrm>
            <a:off x="4138200" y="6431040"/>
            <a:ext cx="4158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63D60-F8D2-4396-B47A-7BCE3B58A5A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89720" y="62895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lash Products Group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ourceforge.net/mtd-mod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sourceforge.net/mtd-mods" TargetMode="External"/><Relationship Id="rId3" Type="http://schemas.openxmlformats.org/officeDocument/2006/relationships/hyperlink" Target="mailto:alexey.korolev@intel.com" TargetMode="External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05120" y="1828440"/>
            <a:ext cx="565128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Improving JFFS2 RAM usage and performanc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276360" y="5638680"/>
            <a:ext cx="3300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ELC Europe 2007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191120" y="3048120"/>
            <a:ext cx="955440" cy="10666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6554520" y="4572000"/>
            <a:ext cx="176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860a8"/>
                </a:solidFill>
                <a:latin typeface="Verdana"/>
              </a:rPr>
              <a:t>Alexey Korolev</a:t>
            </a:r>
            <a:endParaRPr b="0" lang="en-US" sz="22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576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Using File Direct I/O to Reduce RAM Usage and Increase Performance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600" y="971640"/>
            <a:ext cx="8686800" cy="10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ne way to reduce number of nodes (fragments) is to provide direct file IO interface support in JFFS2 and increase JFFS2 granularity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1145520" y="2209680"/>
            <a:ext cx="1867680" cy="119124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 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quests to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rite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60720" y="2743200"/>
            <a:ext cx="503280" cy="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562200" y="2209680"/>
            <a:ext cx="781200" cy="339732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282680" y="3581280"/>
            <a:ext cx="1308240" cy="192276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64KB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343400" y="2209680"/>
            <a:ext cx="3182760" cy="825480"/>
            <a:chOff x="4343400" y="2209680"/>
            <a:chExt cx="3182760" cy="825480"/>
          </a:xfrm>
        </p:grpSpPr>
        <p:sp>
          <p:nvSpPr>
            <p:cNvPr id="397" name=""/>
            <p:cNvSpPr/>
            <p:nvPr/>
          </p:nvSpPr>
          <p:spPr>
            <a:xfrm>
              <a:off x="4343400" y="2635200"/>
              <a:ext cx="6094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52880" y="2209680"/>
              <a:ext cx="2573280" cy="825480"/>
            </a:xfrm>
            <a:prstGeom prst="rect">
              <a:avLst/>
            </a:pr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860a8"/>
                  </a:solidFill>
                  <a:latin typeface="Verdana"/>
                </a:rPr>
                <a:t>JFFS2</a:t>
              </a:r>
              <a:endParaRPr b="0" lang="en-US" sz="2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860a8"/>
                  </a:solidFill>
                  <a:latin typeface="Verdana"/>
                </a:rPr>
                <a:t>file_ops.write()</a:t>
              </a:r>
              <a:endParaRPr b="0" lang="en-US" sz="24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6172200" y="3124080"/>
            <a:ext cx="0" cy="4572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0" y="3581280"/>
            <a:ext cx="3597120" cy="82548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rite one fragment of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2280" y="1219320"/>
          <a:ext cx="8610840" cy="446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19320"/>
                    <a:ext cx="861084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est Resul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7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JFFS2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RAM Usage for Different Volume Siz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5" name=""/>
          <p:cNvSpPr/>
          <p:nvPr/>
        </p:nvSpPr>
        <p:spPr>
          <a:xfrm>
            <a:off x="2666880" y="548640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46240" indent="-244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olume Siz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-1148040" y="3116520"/>
            <a:ext cx="320040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Arial"/>
              </a:rPr>
              <a:t>JFFS2 RAM usage (MB)</a:t>
            </a:r>
            <a:r>
              <a:rPr b="0" lang="en-US" sz="20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29400" y="45720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46240" indent="-2448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47"/>
                </a:solidFill>
                <a:latin typeface="Verdana"/>
              </a:rPr>
              <a:t>3.5X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304920" y="1523880"/>
          <a:ext cx="845820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45820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est Resul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002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a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Time Performance for Different File Siz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200400" y="5334120"/>
            <a:ext cx="1600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le Size (MB)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-533160" y="3200400"/>
            <a:ext cx="2362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46240" indent="-2448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tat Time(sec)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81680" y="4495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47"/>
                </a:solidFill>
                <a:latin typeface="Verdana"/>
              </a:rPr>
              <a:t>&gt;4X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5760" y="177480"/>
            <a:ext cx="823752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Requirements and Limitations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990720"/>
            <a:ext cx="784836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lication should write data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rge chunks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If applications write data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in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small chunks,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fragments won’t be combined until garbage collecto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touches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it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s model not effective if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re are tons of tiny files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voiding VFS page cache use could hav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itive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gative consequences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ing</a:t>
            </a: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file open flag is recommended*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Fo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media files it avoids wasting page cache space and this could positively affect on system performance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Fo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databases, logs,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and documents,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us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  <a:ea typeface="Arial"/>
              </a:rPr>
              <a:t>the page cache is highly recommended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0080" y="5592600"/>
            <a:ext cx="6636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Arial"/>
              </a:rPr>
              <a:t>* We have patch providing reading through VFS cache while direct write</a:t>
            </a:r>
            <a:endParaRPr b="0" lang="en-US" sz="16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760" y="177480"/>
            <a:ext cx="823752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Current status and availability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9" name=""/>
          <p:cNvSpPr/>
          <p:nvPr/>
        </p:nvSpPr>
        <p:spPr>
          <a:xfrm>
            <a:off x="304920" y="1143000"/>
            <a:ext cx="784836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The File direct I/O feature is ready for use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(Linux-2.6.20)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It can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be downloaded from </a:t>
            </a:r>
            <a:r>
              <a:rPr b="0" lang="en-US" sz="2000" spc="-1" strike="noStrike" u="sng">
                <a:solidFill>
                  <a:srgbClr val="0c2e86"/>
                </a:solidFill>
                <a:uFillTx/>
                <a:latin typeface="Verdana"/>
                <a:ea typeface="Arial"/>
                <a:hlinkClick r:id="rId1"/>
              </a:rPr>
              <a:t>www.sourceforge.net/mtd-mods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The patch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size is &lt;50Kb and can be easily port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other JFFS2 versions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0152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Deferred Write and RAM Buffer as a RAM Usage Reduction Prototype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1" name=""/>
          <p:cNvSpPr/>
          <p:nvPr/>
        </p:nvSpPr>
        <p:spPr>
          <a:xfrm>
            <a:off x="173880" y="1843200"/>
            <a:ext cx="1587240" cy="100872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pplication 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quests to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rite data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828800" y="1604880"/>
            <a:ext cx="825480" cy="4208760"/>
            <a:chOff x="1828800" y="1604880"/>
            <a:chExt cx="825480" cy="4208760"/>
          </a:xfrm>
        </p:grpSpPr>
        <p:sp>
          <p:nvSpPr>
            <p:cNvPr id="423" name=""/>
            <p:cNvSpPr/>
            <p:nvPr/>
          </p:nvSpPr>
          <p:spPr>
            <a:xfrm>
              <a:off x="1828800" y="2456640"/>
              <a:ext cx="32400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52800" y="1604880"/>
              <a:ext cx="501480" cy="4208760"/>
            </a:xfrm>
            <a:prstGeom prst="rect">
              <a:avLst/>
            </a:pr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V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F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04920" y="2976480"/>
            <a:ext cx="1307880" cy="39888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6KB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1833480"/>
            <a:ext cx="633600" cy="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300480" y="1528920"/>
            <a:ext cx="2033640" cy="64260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JFFS2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le_ops.write()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cxnSp>
        <p:nvCxnSpPr>
          <p:cNvPr id="428" name=""/>
          <p:cNvCxnSpPr>
            <a:stCxn id="427" idx="3"/>
            <a:endCxn id="429" idx="3"/>
          </p:cNvCxnSpPr>
          <p:nvPr/>
        </p:nvCxnSpPr>
        <p:spPr>
          <a:xfrm>
            <a:off x="5359320" y="1874520"/>
            <a:ext cx="162720" cy="710280"/>
          </a:xfrm>
          <a:prstGeom prst="curvedConnector5">
            <a:avLst>
              <a:gd name="adj1" fmla="val 229268"/>
              <a:gd name="adj2" fmla="val 50000"/>
              <a:gd name="adj3" fmla="val 229268"/>
            </a:avLst>
          </a:prstGeom>
          <a:ln w="50760">
            <a:solidFill>
              <a:srgbClr val="0860a8"/>
            </a:solidFill>
            <a:miter/>
            <a:tailEnd len="med" type="triangle" w="med"/>
          </a:ln>
        </p:spPr>
      </p:cxnSp>
      <p:grpSp>
        <p:nvGrpSpPr>
          <p:cNvPr id="430" name=""/>
          <p:cNvGrpSpPr/>
          <p:nvPr/>
        </p:nvGrpSpPr>
        <p:grpSpPr>
          <a:xfrm>
            <a:off x="2666880" y="2367000"/>
            <a:ext cx="2686320" cy="398880"/>
            <a:chOff x="2666880" y="2367000"/>
            <a:chExt cx="2686320" cy="398880"/>
          </a:xfrm>
        </p:grpSpPr>
        <p:sp>
          <p:nvSpPr>
            <p:cNvPr id="429" name=""/>
            <p:cNvSpPr/>
            <p:nvPr/>
          </p:nvSpPr>
          <p:spPr>
            <a:xfrm>
              <a:off x="3348360" y="2367000"/>
              <a:ext cx="2004840" cy="398880"/>
            </a:xfrm>
            <a:prstGeom prst="rect">
              <a:avLst/>
            </a:prstGeom>
            <a:noFill/>
            <a:ln w="381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do_sync_write()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666880" y="2595600"/>
              <a:ext cx="5932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5257800" y="3381480"/>
            <a:ext cx="1143000" cy="119124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JFFS2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rite</a:t>
            </a:r>
            <a:r>
              <a:rPr b="0" lang="ru-RU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M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ffer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3205080"/>
            <a:ext cx="1606680" cy="36828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4KB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124080" y="3586320"/>
            <a:ext cx="1606680" cy="36828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2KB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3940200"/>
            <a:ext cx="1606680" cy="36828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KB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124080" y="4295880"/>
            <a:ext cx="1606680" cy="36828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724280" y="3457440"/>
            <a:ext cx="533160" cy="1006560"/>
            <a:chOff x="4724280" y="3457440"/>
            <a:chExt cx="533160" cy="1006560"/>
          </a:xfrm>
        </p:grpSpPr>
        <p:sp>
          <p:nvSpPr>
            <p:cNvPr id="438" name=""/>
            <p:cNvSpPr/>
            <p:nvPr/>
          </p:nvSpPr>
          <p:spPr>
            <a:xfrm>
              <a:off x="4724280" y="3457440"/>
              <a:ext cx="5284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28960" y="3776760"/>
              <a:ext cx="5284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28960" y="4130640"/>
              <a:ext cx="5284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28960" y="4464000"/>
              <a:ext cx="5284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537240" y="3373560"/>
            <a:ext cx="1082880" cy="119124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Merge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nodes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28120" y="3309840"/>
            <a:ext cx="1155600" cy="131364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arge chunks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666880" y="3433680"/>
            <a:ext cx="456840" cy="1006560"/>
            <a:chOff x="2666880" y="3433680"/>
            <a:chExt cx="456840" cy="1006560"/>
          </a:xfrm>
        </p:grpSpPr>
        <p:sp>
          <p:nvSpPr>
            <p:cNvPr id="445" name=""/>
            <p:cNvSpPr/>
            <p:nvPr/>
          </p:nvSpPr>
          <p:spPr>
            <a:xfrm>
              <a:off x="2666880" y="3433680"/>
              <a:ext cx="4528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70840" y="3753000"/>
              <a:ext cx="4528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70840" y="4106880"/>
              <a:ext cx="4528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70840" y="4440240"/>
              <a:ext cx="4528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666880" y="5415120"/>
            <a:ext cx="633600" cy="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323160" y="5186520"/>
            <a:ext cx="840600" cy="36828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Sync()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191120" y="5415120"/>
            <a:ext cx="633240" cy="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76920" y="5027760"/>
            <a:ext cx="2057400" cy="64260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JFFS2 flush</a:t>
            </a:r>
            <a:r>
              <a:rPr b="0" lang="ru-RU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M buffer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3433680"/>
            <a:ext cx="1307880" cy="39888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1KB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3890880"/>
            <a:ext cx="1307880" cy="39888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4KB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4348080"/>
            <a:ext cx="1307880" cy="39888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0400" y="874800"/>
            <a:ext cx="69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Arial"/>
              </a:rPr>
              <a:t>Compared</a:t>
            </a: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Arial"/>
              </a:rPr>
              <a:t>to Direct IO,</a:t>
            </a: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Arial"/>
              </a:rPr>
              <a:t>deferred write</a:t>
            </a: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Arial"/>
              </a:rPr>
              <a:t>is effective even if applications write</a:t>
            </a: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Arial"/>
              </a:rPr>
              <a:t>data in small chunks.</a:t>
            </a:r>
            <a:r>
              <a:rPr b="0" lang="en-US" sz="18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838080"/>
            <a:ext cx="83055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Patches to provide Direct I/O in JFFS2 are ready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+ Significantly reduce RAM usage and open time</a:t>
            </a:r>
            <a:br>
              <a:rPr sz="22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+ Easy applicable</a:t>
            </a:r>
            <a:br>
              <a:rPr sz="2200"/>
            </a:b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- Has restrictions on large write chunks</a:t>
            </a:r>
            <a:endParaRPr b="0" lang="en-US" sz="2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7D0E-0324-438D-80DC-0A3BDF37145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Q &amp; A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1024200" cy="1143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657600" y="2743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Questions ?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04920" y="4724280"/>
            <a:ext cx="8305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Link:  </a:t>
            </a:r>
            <a:r>
              <a:rPr b="1" lang="en-US" sz="28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http://sourceforge.net/mtd-mods</a:t>
            </a:r>
            <a:br>
              <a:rPr sz="2800"/>
            </a:br>
            <a:r>
              <a:rPr b="1" lang="en-US" sz="2800" spc="-1" strike="noStrike" u="sng">
                <a:solidFill>
                  <a:srgbClr val="0860a8"/>
                </a:solidFill>
                <a:uFillTx/>
                <a:latin typeface="Verdana"/>
              </a:rPr>
              <a:t>mailto: </a:t>
            </a:r>
            <a:r>
              <a:rPr b="1" lang="en-US" sz="28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alexey.korolev@intel.com</a:t>
            </a:r>
            <a:br>
              <a:rPr sz="2800"/>
            </a:b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65578-2EBB-4D73-99F5-ECA280ABFCD8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genda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JFFS2 in brief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JFFS2 efficiency on large volum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rket data on flash densiti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Volume size test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y JFFS2 is inefficient on large volum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roving JFFS2 RAM usage and performance within existing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posed improvement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le direct I/O as a fast solution to reduce RAM usage and increase performan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est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irements and limita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urrent status and avail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ferred write and JFFS2 RAM buffer as a RAM usage reduction prototyp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Q&amp;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JFFS2 in brief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ournaling Flash File System version 2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upported in Linux for years since 2001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ks with NOR, NOR-ECC, NOR with programming regions, NAND and Dataflash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idely used in many configurations to provide FS interface to memory technology device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ecasted Flash Densiti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486400" y="2852640"/>
          <a:ext cx="3505320" cy="1262160"/>
        </p:xfrm>
        <a:graphic>
          <a:graphicData uri="http://schemas.openxmlformats.org/drawingml/2006/table">
            <a:tbl>
              <a:tblPr/>
              <a:tblGrid>
                <a:gridCol w="744480"/>
                <a:gridCol w="776520"/>
                <a:gridCol w="611280"/>
                <a:gridCol w="734760"/>
                <a:gridCol w="638280"/>
              </a:tblGrid>
              <a:tr h="53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NOR 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25.8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31.5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40.2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48.8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NAND 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2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60a8"/>
                          </a:solidFill>
                          <a:latin typeface="Arial"/>
                          <a:ea typeface="Arial"/>
                        </a:rPr>
                        <a:t>239</a:t>
                      </a:r>
                      <a:endParaRPr b="0" lang="en-US" sz="14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04920" y="1852560"/>
          <a:ext cx="5029200" cy="332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52560"/>
                    <a:ext cx="502920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304920" y="990720"/>
            <a:ext cx="693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Cellular Handsets Forecasted NOR and NAND Densities in MB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Volume size test data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3352680" y="4876920"/>
            <a:ext cx="320040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Arial"/>
              </a:rPr>
              <a:t>Volume used size (MB)</a:t>
            </a:r>
            <a:r>
              <a:rPr b="0" lang="en-US" sz="20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143000" y="1066680"/>
          <a:ext cx="7773840" cy="37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777384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 rot="16200000">
            <a:off x="-830520" y="2659320"/>
            <a:ext cx="320040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Arial"/>
              </a:rPr>
              <a:t>JFFS2 RAM usage (MB)</a:t>
            </a:r>
            <a:r>
              <a:rPr b="0" lang="en-US" sz="20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Volume size test data</a:t>
            </a:r>
            <a:br>
              <a:rPr sz="2600"/>
            </a:b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4876920"/>
            <a:ext cx="320040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Arial"/>
              </a:rPr>
              <a:t>File size (MB)</a:t>
            </a:r>
            <a:r>
              <a:rPr b="0" lang="en-US" sz="2000" spc="-1" strike="noStrike">
                <a:solidFill>
                  <a:srgbClr val="0860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143000" y="1066680"/>
          <a:ext cx="7553160" cy="38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755316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 rot="16200000">
            <a:off x="-563760" y="2773800"/>
            <a:ext cx="266688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Arial"/>
              </a:rPr>
              <a:t>File open time (sec)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Why Does JFFS2 Become Inefficient on Large Data Volumes?</a:t>
            </a:r>
            <a:br>
              <a:rPr sz="2200"/>
            </a:b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066680"/>
            <a:ext cx="769608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FFS2 assumes keeping nodes (fragment) descriptions in memory since the moment of getting file info.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860a8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JFFS2 RAM usage increases linearly as the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number of nodes increases (Every data node takes 40bytes of RAM)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860a8"/>
              </a:buClr>
              <a:buFont typeface="Verdana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If a file has many fragments,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file open time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  <a:ea typeface="Arial"/>
              </a:rPr>
              <a:t>increases significantly because JFFS2 needs to read every header from flash 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marL="347760" indent="-34776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is is the architectural scalability issue of JFFS2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marL="347760" indent="-34776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marL="347760" indent="-34776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is not possible to completely solve it without a complete file system redesign, however there are workarounds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Improving RAM Usage and File Open Time Within Existing JFFS2 Architecture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375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Our approach to reducing RAM usage and decreasing file open time is conceptually simple (but effective)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Reduce the number of JFFS2 frag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3429000"/>
            <a:ext cx="8237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et’s look at how this can be done… 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0152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60a8"/>
                </a:solidFill>
                <a:latin typeface="Verdana"/>
              </a:rPr>
              <a:t>Using File Direct I/O to Reduce RAM Usage and Increase Performance</a:t>
            </a:r>
            <a:endParaRPr b="1" lang="en-US" sz="2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380880" y="9907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60a8"/>
                </a:solidFill>
                <a:latin typeface="Verdana"/>
              </a:rPr>
              <a:t>Lets look at the file write procedure</a:t>
            </a:r>
            <a:endParaRPr b="0" lang="en-US" sz="22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760" y="1905120"/>
            <a:ext cx="1587240" cy="100872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pplication 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quests to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rite data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222640" y="1600200"/>
            <a:ext cx="1282320" cy="3448080"/>
            <a:chOff x="2222640" y="1600200"/>
            <a:chExt cx="1282320" cy="3448080"/>
          </a:xfrm>
        </p:grpSpPr>
        <p:sp>
          <p:nvSpPr>
            <p:cNvPr id="363" name=""/>
            <p:cNvSpPr/>
            <p:nvPr/>
          </p:nvSpPr>
          <p:spPr>
            <a:xfrm>
              <a:off x="2222640" y="2451960"/>
              <a:ext cx="5032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24480" y="1600200"/>
              <a:ext cx="780480" cy="3448080"/>
            </a:xfrm>
            <a:prstGeom prst="rect">
              <a:avLst/>
            </a:pr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V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F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S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703440" y="3227400"/>
            <a:ext cx="1307880" cy="1618560"/>
          </a:xfrm>
          <a:prstGeom prst="rect">
            <a:avLst/>
          </a:prstGeom>
          <a:solidFill>
            <a:srgbClr val="ff5c47"/>
          </a:solidFill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64KB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505320" y="1600200"/>
            <a:ext cx="3182760" cy="703800"/>
            <a:chOff x="3505320" y="1600200"/>
            <a:chExt cx="3182760" cy="703800"/>
          </a:xfrm>
        </p:grpSpPr>
        <p:sp>
          <p:nvSpPr>
            <p:cNvPr id="367" name=""/>
            <p:cNvSpPr/>
            <p:nvPr/>
          </p:nvSpPr>
          <p:spPr>
            <a:xfrm>
              <a:off x="3505320" y="1905120"/>
              <a:ext cx="60948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14800" y="1600200"/>
              <a:ext cx="2573280" cy="703800"/>
            </a:xfrm>
            <a:prstGeom prst="rect">
              <a:avLst/>
            </a:pr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JFFS2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file_ops.write()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cxnSp>
        <p:nvCxnSpPr>
          <p:cNvPr id="369" name=""/>
          <p:cNvCxnSpPr>
            <a:stCxn id="368" idx="3"/>
            <a:endCxn id="370" idx="3"/>
          </p:cNvCxnSpPr>
          <p:nvPr/>
        </p:nvCxnSpPr>
        <p:spPr>
          <a:xfrm>
            <a:off x="6713640" y="1976400"/>
            <a:ext cx="140400" cy="867600"/>
          </a:xfrm>
          <a:prstGeom prst="curvedConnector5">
            <a:avLst>
              <a:gd name="adj1" fmla="val 248843"/>
              <a:gd name="adj2" fmla="val 49979"/>
              <a:gd name="adj3" fmla="val 248843"/>
            </a:avLst>
          </a:prstGeom>
          <a:ln w="50760">
            <a:solidFill>
              <a:srgbClr val="0860a8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4114800" y="2624040"/>
            <a:ext cx="2719440" cy="398880"/>
          </a:xfrm>
          <a:prstGeom prst="rect">
            <a:avLst/>
          </a:prstGeom>
          <a:noFill/>
          <a:ln w="381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o_sync_write()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504960" y="2793960"/>
            <a:ext cx="609480" cy="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505320" y="3200400"/>
            <a:ext cx="4800600" cy="398880"/>
            <a:chOff x="3505320" y="3200400"/>
            <a:chExt cx="4800600" cy="398880"/>
          </a:xfrm>
        </p:grpSpPr>
        <p:sp>
          <p:nvSpPr>
            <p:cNvPr id="373" name=""/>
            <p:cNvSpPr/>
            <p:nvPr/>
          </p:nvSpPr>
          <p:spPr>
            <a:xfrm>
              <a:off x="3505320" y="3429000"/>
              <a:ext cx="53316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38480" y="3200400"/>
              <a:ext cx="4267440" cy="398880"/>
            </a:xfrm>
            <a:prstGeom prst="rect">
              <a:avLst/>
            </a:prstGeom>
            <a:noFill/>
            <a:ln w="381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add to VFS pg cache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562720" y="4229280"/>
            <a:ext cx="685800" cy="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48520" y="3860640"/>
            <a:ext cx="2217600" cy="1008720"/>
          </a:xfrm>
          <a:prstGeom prst="rect">
            <a:avLst/>
          </a:pr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FFS2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rite_page()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956040" y="3657600"/>
            <a:ext cx="1606680" cy="779760"/>
            <a:chOff x="3956040" y="3657600"/>
            <a:chExt cx="1606680" cy="779760"/>
          </a:xfrm>
        </p:grpSpPr>
        <p:sp>
          <p:nvSpPr>
            <p:cNvPr id="378" name=""/>
            <p:cNvSpPr/>
            <p:nvPr/>
          </p:nvSpPr>
          <p:spPr>
            <a:xfrm>
              <a:off x="3956040" y="4038480"/>
              <a:ext cx="1606680" cy="398880"/>
            </a:xfrm>
            <a:prstGeom prst="rect">
              <a:avLst/>
            </a:prstGeom>
            <a:solidFill>
              <a:srgbClr val="ff5c47"/>
            </a:solidFill>
            <a:ln w="381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0-4KB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2000" y="3657600"/>
              <a:ext cx="0" cy="3808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956040" y="4495680"/>
            <a:ext cx="2292480" cy="398880"/>
            <a:chOff x="3956040" y="4495680"/>
            <a:chExt cx="2292480" cy="398880"/>
          </a:xfrm>
        </p:grpSpPr>
        <p:sp>
          <p:nvSpPr>
            <p:cNvPr id="381" name=""/>
            <p:cNvSpPr/>
            <p:nvPr/>
          </p:nvSpPr>
          <p:spPr>
            <a:xfrm>
              <a:off x="3956040" y="4495680"/>
              <a:ext cx="1606680" cy="398880"/>
            </a:xfrm>
            <a:prstGeom prst="rect">
              <a:avLst/>
            </a:prstGeom>
            <a:solidFill>
              <a:srgbClr val="ff5c47"/>
            </a:solidFill>
            <a:ln w="381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4-8KB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562720" y="4686120"/>
              <a:ext cx="68580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956040" y="4952880"/>
            <a:ext cx="2292480" cy="398880"/>
            <a:chOff x="3956040" y="4952880"/>
            <a:chExt cx="2292480" cy="398880"/>
          </a:xfrm>
        </p:grpSpPr>
        <p:sp>
          <p:nvSpPr>
            <p:cNvPr id="384" name=""/>
            <p:cNvSpPr/>
            <p:nvPr/>
          </p:nvSpPr>
          <p:spPr>
            <a:xfrm>
              <a:off x="3956040" y="4952880"/>
              <a:ext cx="1606680" cy="398880"/>
            </a:xfrm>
            <a:prstGeom prst="rect">
              <a:avLst/>
            </a:prstGeom>
            <a:solidFill>
              <a:srgbClr val="ff5c47"/>
            </a:solidFill>
            <a:ln w="381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…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62720" y="5143320"/>
              <a:ext cx="68580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956040" y="5410080"/>
            <a:ext cx="2292480" cy="398880"/>
            <a:chOff x="3956040" y="5410080"/>
            <a:chExt cx="2292480" cy="398880"/>
          </a:xfrm>
        </p:grpSpPr>
        <p:sp>
          <p:nvSpPr>
            <p:cNvPr id="387" name=""/>
            <p:cNvSpPr/>
            <p:nvPr/>
          </p:nvSpPr>
          <p:spPr>
            <a:xfrm>
              <a:off x="3956040" y="5410080"/>
              <a:ext cx="1606680" cy="398880"/>
            </a:xfrm>
            <a:prstGeom prst="rect">
              <a:avLst/>
            </a:prstGeom>
            <a:solidFill>
              <a:srgbClr val="ff5c47"/>
            </a:solidFill>
            <a:ln w="381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860a8"/>
                  </a:solidFill>
                  <a:latin typeface="Verdana"/>
                </a:rPr>
                <a:t>56-64KB</a:t>
              </a:r>
              <a:endParaRPr b="0" lang="en-US" sz="20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62720" y="5600520"/>
              <a:ext cx="685800" cy="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6446160" y="4964040"/>
            <a:ext cx="178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16 requests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16 fragments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gabrie</dc:creator>
  <dc:description/>
  <dc:language>en-US</dc:language>
  <cp:lastModifiedBy>alexey korolev</cp:lastModifiedBy>
  <dcterms:modified xsi:type="dcterms:W3CDTF">2007-11-03T20:24:22Z</dcterms:modified>
  <cp:revision>23</cp:revision>
  <dc:subject/>
  <dc:title>Edit Scenario</dc:title>
</cp:coreProperties>
</file>